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70B-CF34-43A6-A793-C074B075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2DD-26E0-47A1-9A58-3B44F3F7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AABF-A5FA-4ED4-A744-43BE17FE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CBC-587F-4357-9DBD-47E497BA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652-718C-4246-8312-38112740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05D-8055-4FA0-93C9-03659A9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A91-15F2-495D-B32D-56DE23A3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95D-D1CB-44AF-8A27-485BFA5B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2E8-3756-4923-821E-DBF1078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379-8BC6-4EC0-93C5-3E8E0936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121-3B40-4EC6-B7F7-2EDED3C3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BB2-9B11-4476-B9F1-DB38FC3E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3FD5-C269-43AA-8DD9-196302C46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2-23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3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2 году (часть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712800"/>
          <a:ext cx="8785440" cy="559260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 9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9 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9 35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 50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8135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в выполнении НИР в 2012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05672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Участие в выставках и конференциях в 2012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, всего –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- </a:t>
            </a:r>
            <a:r>
              <a:rPr b="0" lang="ru-RU" sz="1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-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112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в том числе  на базе вуза -  </a:t>
            </a:r>
            <a:r>
              <a:rPr b="0" lang="ru-RU" sz="1600" spc="-1" strike="noStrike">
                <a:solidFill>
                  <a:srgbClr val="ff0000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– </a:t>
            </a: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2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man Old Style"/>
              </a:rPr>
              <a:t>Результативность научных исследований в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 2012 г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4360" y="692280"/>
          <a:ext cx="7991280" cy="5632200"/>
        </p:xfrm>
        <a:graphic>
          <a:graphicData uri="http://schemas.openxmlformats.org/drawingml/2006/table">
            <a:tbl>
              <a:tblPr/>
              <a:tblGrid>
                <a:gridCol w="6264000"/>
                <a:gridCol w="17272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международных  и всероссийских  конференций,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друг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татьи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явки на объекты промышлен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зобрет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олезные мод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атенты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идетельства  о государственной регистрации Роспатен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программ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баз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Пленарное заседание</a:t>
            </a:r>
            <a:br>
              <a:rPr sz="1400"/>
            </a:b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200" spc="-1" strike="noStrike">
                <a:solidFill>
                  <a:srgbClr val="ff3300"/>
                </a:solidFill>
                <a:latin typeface="Bookman Old Style"/>
              </a:rPr>
              <a:t>13</a:t>
            </a:r>
            <a:r>
              <a:rPr b="1" lang="ru-RU" sz="12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630360"/>
            <a:ext cx="5925960" cy="6227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2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Основные научные направления </a:t>
            </a:r>
            <a:r>
              <a:rPr b="1" lang="en-US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71640" y="765000"/>
          <a:ext cx="6983280" cy="57610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6520" y="289080"/>
            <a:ext cx="8138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000000"/>
                </a:solidFill>
                <a:latin typeface="Bookman Old Style"/>
              </a:rPr>
              <a:t>2</a:t>
            </a:r>
            <a:r>
              <a:rPr b="1" lang="ru-RU" sz="2600" spc="-1" strike="noStrike">
                <a:solidFill>
                  <a:srgbClr val="000000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341360"/>
          <a:ext cx="8785080" cy="458460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2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4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11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0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55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0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0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8603640" y="2924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604360" y="3860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8603640" y="5445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603640" y="3429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8603640" y="4653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227640" y="465300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8603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3860640"/>
            <a:ext cx="146160" cy="287640"/>
          </a:xfrm>
          <a:prstGeom prst="downArrow">
            <a:avLst>
              <a:gd name="adj1" fmla="val 50000"/>
              <a:gd name="adj2" fmla="val 492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6227640" y="234936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92428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227640" y="508464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04360" y="5084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227640" y="551664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227640" y="342900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9640" y="333360"/>
          <a:ext cx="8226360" cy="57456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Государственного задания, ФЦП в 201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961920" y="1374840"/>
          <a:ext cx="744876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374840"/>
                    <a:ext cx="744876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Распределение тем НИР </a:t>
            </a:r>
            <a:r>
              <a:rPr b="1" lang="en-US" sz="18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  в 201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24000" y="593640"/>
          <a:ext cx="8353440" cy="5959440"/>
        </p:xfrm>
        <a:graphic>
          <a:graphicData uri="http://schemas.openxmlformats.org/drawingml/2006/table">
            <a:tbl>
              <a:tblPr/>
              <a:tblGrid>
                <a:gridCol w="3539880"/>
                <a:gridCol w="1789200"/>
                <a:gridCol w="302436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4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6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5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0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 64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: - Морской  инстит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 3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 50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8459640" y="4365720"/>
            <a:ext cx="144720" cy="287280"/>
          </a:xfrm>
          <a:prstGeom prst="downArrow">
            <a:avLst>
              <a:gd name="adj1" fmla="val 50000"/>
              <a:gd name="adj2" fmla="val 4962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5229360"/>
            <a:ext cx="144720" cy="288720"/>
          </a:xfrm>
          <a:prstGeom prst="upArrow">
            <a:avLst>
              <a:gd name="adj1" fmla="val 50000"/>
              <a:gd name="adj2" fmla="val 498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773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9079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8360" y="981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8360" y="134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134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8360" y="1773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35640" y="2205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8360" y="2205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35640" y="270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270828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59640" y="479736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5229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789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59640" y="3789360"/>
            <a:ext cx="144720" cy="289080"/>
          </a:xfrm>
          <a:prstGeom prst="upArrow">
            <a:avLst>
              <a:gd name="adj1" fmla="val 50000"/>
              <a:gd name="adj2" fmla="val 499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Сведения по НИР за 2012 год 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765000"/>
          <a:ext cx="8675640" cy="5778720"/>
        </p:xfrm>
        <a:graphic>
          <a:graphicData uri="http://schemas.openxmlformats.org/drawingml/2006/table">
            <a:tbl>
              <a:tblPr/>
              <a:tblGrid>
                <a:gridCol w="1658880"/>
                <a:gridCol w="290520"/>
                <a:gridCol w="723960"/>
                <a:gridCol w="289080"/>
                <a:gridCol w="652320"/>
                <a:gridCol w="285840"/>
                <a:gridCol w="579600"/>
                <a:gridCol w="290520"/>
                <a:gridCol w="685800"/>
                <a:gridCol w="180720"/>
                <a:gridCol w="654120"/>
                <a:gridCol w="285840"/>
                <a:gridCol w="650880"/>
                <a:gridCol w="506160"/>
                <a:gridCol w="941400"/>
              </a:tblGrid>
              <a:tr h="85536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 44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1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6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51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 84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50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63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9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х систем и геотехнолог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24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 24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6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36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3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3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2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правление международных связ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862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 130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5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5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6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0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9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72880"/>
            <a:ext cx="85690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Сведения о НИР </a:t>
            </a:r>
            <a:r>
              <a:rPr b="1" lang="en-US" sz="20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 в 2012 году (часть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1197000"/>
          <a:ext cx="8785440" cy="494820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3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2 9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2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 7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5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2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6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систем и гео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ых технологий и систем безопас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орских измерительных сист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сшей математики и теоретической меха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9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User</cp:lastModifiedBy>
  <dcterms:modified xsi:type="dcterms:W3CDTF">2013-02-20T05:05:49Z</dcterms:modified>
  <cp:revision>623</cp:revision>
  <dc:subject/>
  <dc:title>Итоговая сессия Ученого совета РГГМУ</dc:title>
</cp:coreProperties>
</file>